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F85-C349-4DD3-8E3C-4E395F37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B73-D954-4331-8A92-9FABFDCD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EC9-E81A-439A-BBA1-B4632744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AF5-5617-4880-90DF-1B2709E1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FE17-924D-4B4B-8F38-7523E2DE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069F-6490-421C-B8E6-9A0E8922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3154-75C0-4C95-8989-B3D2BE91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FE0B-1FB7-460A-8CF6-A1E4240E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B256-3D36-42A2-B0D9-B06256ED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7ACC-1075-4E14-AAC5-011CAFBD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B33C-0E98-4D83-9774-459A0A5F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FB5-98B6-4381-8498-5AB32920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6ED0-542C-45AF-A65B-F55C6B9E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D604-1C5F-4D79-A9A8-555BC95A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8246-7078-4869-B2EE-036FD9A0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40DF-8915-4A27-8E98-B5CE0463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288B-16F5-4F51-A036-85EEE1CC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D8AAF-3B2A-4EF8-A312-5C9AE3A6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F34D5-3ED3-4068-A2A4-DCFDB7DA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A5B17-D63D-432E-8788-BA438CD1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CD4D5-4F19-4A06-AFB5-1B5F74F7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9FF03-3D70-43B3-B1E8-1C5E4A32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12C-680D-440C-BDB4-DAFE6E3D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AA985-E1E6-4E41-B92B-B6107766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4E3AA-4D42-4C9C-B4A7-62EDCC76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DDCBF-13CD-4852-8168-2A7D710C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9BC6E-8B5B-48BE-8312-0E734C12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8B9A7-A5FD-4FCE-9D96-9B612EE3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C1AE2-6443-4223-A799-ADC9CB86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A3947-CC2D-4F7F-9A4C-2C652E2B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BCFA-497D-4CA5-B01C-9B7D44DF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F05-AC05-44DD-9275-4E44BA2E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145-10D5-4840-9427-9E7D44C5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097E-4C4E-4F93-B33B-1E5F6FB7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626-7576-4614-8501-CF0A97B6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804-8182-4239-8877-29498628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5CF5-375B-444A-A76E-EDB95DA86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0088-4066-421B-ABE3-273E9C6076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92C8-0445-4F3F-880D-0D8D94C8CB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اضي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00"/>
                </a:solidFill>
                <a:uFillTx/>
                <a:latin typeface="Arial"/>
              </a:rPr>
              <a:t>ملاحظ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جميع الأسئلة السابقة تكون إجابتها بـ        أو         و ذلك لأنها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  <a:ea typeface="Tahoma"/>
              </a:rPr>
              <a:t> لم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تبدأ بأداة سؤال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2080" y="480060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4320" y="541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17360" y="5410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10480" y="259092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0720" y="2516040"/>
          <a:ext cx="7543800" cy="354780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4343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ك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ت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ز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سب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ا/ 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ش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اختيار بين شيئ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فاعل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مفعول به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838080" y="175248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ذا كان الهدف من السؤال إعطاء معلومة معينة فيجب أن يبدأ بإحدى أدوات السؤال التالية و التي تسمى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90720" y="2516040"/>
          <a:ext cx="7543800" cy="352404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4343400"/>
              </a:tblGrid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لك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بع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838080" y="160020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ختر أداة السؤال المناسبة للجزء المراد السؤال عنه، مثل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, Where, Why………..etc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عل المساعد                      (إن وجد) قبل الفاعل أي بعد أداة السؤال مباشر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إذا لم يكن بالجملة فعل مساعد استخ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بدون     نستخدم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الذي به    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اضي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اعل بعد الفعل المساعد سواء الموجود بالجملة أصلاً أو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ي استخدمناها من عندنا مع ملاحظة إعادة الفعل إلى أصله أي تصريفه الأو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حذف الجزء المراد السؤال عنه لأنه جواب السؤا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helping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4191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191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572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going to eat m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they going to 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قدمنا      على         لأنها هي الفعل المساعد ثم حذفنا كلمة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played tennis at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d they play tenn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استخدمنا        لعدم وجود فعل مساعد و لأن الفعل في الماضي. و لاحظ أيضاً حذف       من الفعل لإعادته ألى أصله. و لاحظ أننا حذفنا   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57760" y="32767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y       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22840" y="327672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7440" y="49528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963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16600" y="5181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لاحظ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حظ تغيير بعض الضمائر لكي تتناسب مع المعنى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كان السؤال عن الفاعل لا نستخدم فعلاًًًًً مساعداً من عندنا بل نضع أداة السؤال            إذا كان الفاعل عاقلاً و            إذا كان الفعل غير عاق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hm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34290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ry pleas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as he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 أو الك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irt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an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wenty years old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aid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ive pound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id you pay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50 K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it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rope is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wo meters long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rop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أط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fenc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ur meters high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fe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إرتفا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i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ter and a half tall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tal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Sami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أطوال ال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بعض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ستخدم             و أخواتها في الجمل الخبرية و ليست المنفية أو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تستخدم           و أخواتها مع السؤال و النف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سؤا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نف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72240" y="18288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243828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had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         2)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a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67280" y="33526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419112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Do you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?             2) 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t h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Is h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5410080"/>
            <a:ext cx="67816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do not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2)  I did not se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not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نفي نضع كلمة          بعد الفعل المساعد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14520" y="1905120"/>
            <a:ext cx="743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lative pronouns are used to join sentences toge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ضمائر الوصل لربط الجمل بعضها ببع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لربط الجمل اتبع الخطوات الآتي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نبحث عن كلمة متكررة في الجملة الثانية ثم نبحث عن موقعها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فإذا كانت فاعلاً عاقلاً نستعمل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إذا كانت مفعولاً به عاقلاً نستعمل           و نعرف ذلك بوجود الكلمة بعد الفعل.  و إذا كانت غير عاقل نستعمل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ا            فتستخدم بدل أي كلمة من الكلمات السابقة إلا أننا لا نفضل استعمالها في جميع الجم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إذا كانت للملكية نستعمل كلمة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حذف الكلمة المتكررة من الجملة الثانية وضع الاسم الذي حذفت مثله في الجملة الأولى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63480" y="3581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6760" y="3886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1400" y="4114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2160" y="4800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10840" y="434340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18288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 forms &amp; Short forms of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95288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99072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39895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إث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286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الن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النفي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إذا لم يكن في الجملة فعل مساعد فنأتي بفعل مساعد من عندن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وهذه الأفعال المساعدة هي:                          ثم نضع              بعده مع ملاحظة إعادة الفعل إلى أصله أي التصريف الأول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cc3300"/>
                </a:solidFill>
                <a:latin typeface="Arial"/>
              </a:rPr>
              <a:t>ملاحظ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 إذا كانت إحدى الكلمات الآتية في الجملة فننفي الجملة بنفي الكلمة كما في الجدول التالي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38160" y="2209680"/>
            <a:ext cx="18676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do, does,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84680" y="2209680"/>
            <a:ext cx="7354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12720" y="3457440"/>
          <a:ext cx="7128000" cy="271008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firm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ثبات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g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في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ع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……a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من....و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…..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ما......أو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i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………a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له.......مثل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so…………..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not e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العادات و التقاليد و القدرات و الحقائ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التصريف الأول للفعل أي الفعل المج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828800" y="4267080"/>
          <a:ext cx="6934320" cy="178740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دائماً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ner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مومًا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بد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 time to ti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ن لآخ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schoo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lee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11.00 p.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ffee in the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ver late to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إذا كان الفاعل مفرد غائب نضيف    زيادة لل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ilk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w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 mi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87880" y="48783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تكون هذا الزمن من التصريف الثاني للفعل أي إضافة       مع ملاحظة الأفعال الشاذ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828800" y="4495680"/>
          <a:ext cx="6934320" cy="108756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terda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اضي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o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ضى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1988 AD, in 1415 A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     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أو أي تاريخ في الماضي مث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38800" y="32274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066680" y="3049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Past Simple Tense</a:t>
            </a:r>
            <a:r>
              <a:rPr b="0" lang="ar-SA" sz="800" spc="-1" strike="noStrike">
                <a:solidFill>
                  <a:srgbClr val="000066"/>
                </a:solidFill>
                <a:latin typeface="Arial"/>
              </a:rPr>
              <a:t>    الماضي البسيط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, He, She, i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ir uncl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ter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akkah two month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2057400"/>
            <a:ext cx="495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3048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3429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في المستقب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        او           ثم التصريف الأول للفع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أتي        مع ضمير المتكلم    و      أما         فتأتي مع باقي الضمائ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لكن          ندر استخدامها في الإنجليزية الحديثة وقد حلت كلمة        بدلها مع جميع الضمائر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828800" y="4724280"/>
          <a:ext cx="6934320" cy="1087560"/>
        </p:xfrm>
        <a:graphic>
          <a:graphicData uri="http://schemas.openxmlformats.org/drawingml/2006/table">
            <a:tbl>
              <a:tblPr/>
              <a:tblGrid>
                <a:gridCol w="2209680"/>
                <a:gridCol w="1752840"/>
                <a:gridCol w="29718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morrow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x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قادم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the futu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مستقبل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2010 AD, in 1425 A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و أي تاريخ في المستقبل مثل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09720" y="30481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 </a:t>
            </a:r>
            <a:r>
              <a:rPr b="0" lang="ar-SA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 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960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41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e 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20574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o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o school tomorr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pl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ot ball next Fri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jo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arm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 the fu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تكوين أخر للمستقبل البسيط باستخدا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 , is , are                        going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05740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5181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       لتحل محل الفاعل العاقل و طبعاً نعرف الفاعل بوجوده أول الجملة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. The man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     من الجملة الثانية و نضع بدلاً منها         ثم نضع الجملة الثانية بعد الكلمة التي حذفنا مثلها في الجملة الأولى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  The man wa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here is a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swims well. He lives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ves here swims we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297200" y="23623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للفاعل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54800" y="3124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8880" y="3124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عمل           لتحل محل المفعول به العاقل و طبعاً نعرف المفعول به بوجوده بعد الفعل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I visite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من الجملة الثانية  ثم نضع            أول الجملة الثانية،  ونضع الاسم الموصول و الجملة الثانية بعد الكلمة التي حذفنا مثلها (التي يعود إليها الضمير)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visited came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was working with me.   I pai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paid was working with 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.  You gave her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gave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987600" y="23623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m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المفعول به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38200" y="3124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6520" y="312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الغير عاقل و طبعاً نعرف الفاعل بوجوده أول الجملة أما المفعول به فيوجد بعد الفعل.  لاحظ المثال التا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. He lost i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c3300"/>
                </a:solidFill>
                <a:latin typeface="Arial"/>
              </a:rPr>
              <a:t>نرى أن كلمة            تعود على كلمة               فنحذفها و نضع بدلاً منها            في أول الجملة الثانية ثم نضع الاسم الموصول و الجملة الثانية بعد الكلمة التي حذفنا مثلها (التي يعود إليها الضمير) فتصبح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los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.  I live in 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 live 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is cheap.  It is very usefu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very useful is che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144920" y="23623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1905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ch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جماد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94440" y="3352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8360" y="335268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is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61280" y="33526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به العاقل و غير عاقل أي تحل محل أي أداة سبق شرحها.  لاحظ الأمثلة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.  You met 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o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m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.  It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ich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560640" y="2387520"/>
            <a:ext cx="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905120"/>
            <a:ext cx="51814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a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عاقل و غير العاقل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عمل           للملكية.  لاحظ المثال التالي: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. 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 نجد أن كلمة          مملوكة لـ                فنحذف ضمير الملكية و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ahoma"/>
              </a:rPr>
              <a:t>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ضع بدلاً منه الاسم الموصول             ثم نضع بعدها كلمة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59720" y="25146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905120"/>
            <a:ext cx="41148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se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200" spc="-1" strike="noStrike">
                <a:solidFill>
                  <a:srgbClr val="000000"/>
                </a:solidFill>
                <a:latin typeface="Tahoma"/>
              </a:rPr>
              <a:t>[للملكية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3480" y="45720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876920"/>
            <a:ext cx="6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26360" y="48769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61000" y="45720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سؤال نضع الفعل المساعد في البداية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ctors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do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 to the market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go to the mark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بدون      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الذي به       نستخدم 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16640" y="403848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16640" y="579132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2120" y="25909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07200" y="44956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6360" y="25909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3480" y="4495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04Z</dcterms:created>
  <dc:creator>user</dc:creator>
  <dc:description/>
  <dc:language>en-US</dc:language>
  <cp:lastModifiedBy>user</cp:lastModifiedBy>
  <dcterms:modified xsi:type="dcterms:W3CDTF">2007-07-13T00:16:04Z</dcterms:modified>
  <cp:revision>1</cp:revision>
  <dc:subject/>
  <dc:title>الشريحة 1</dc:title>
</cp:coreProperties>
</file>